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9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F83-18D9-442B-88D2-3424667E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42E-72FE-4959-8721-9C380B09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DF8-C526-4980-B29C-7611F9AA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957-C091-425C-8631-10904D86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D1A-D1A1-44D6-BE75-95239FF9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CAD-B300-4686-88C9-616EF37E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0A3-72AE-4E7C-BD48-74890CA6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0AF-737C-43B3-AE7D-7CF6A47C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FC4-C0BC-4C60-BD54-CAAC9894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AF0-189F-4550-B56E-DDFE01D2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248-7F35-4F3A-A62F-D8311D29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9C6-0AC2-4807-B213-37E8DB9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2CC3-7663-4AD3-8E5B-6C0219B9663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4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785880"/>
            <a:ext cx="8820000" cy="80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7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-   Acción de lipasas y sale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-    Resíntesis de triglicéridos en célula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Transporte de lípidos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: 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- Función e importancia metabólica.  Apo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ogénesis: Biosíntesis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ido Palmítico: Precursores y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ast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íntesis de ácidos grasos 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Metabolismo del colestero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ólisis. Degra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tivación y Transporte hacia la matriz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eta-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alance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Función e importancia metabólica. Cetogénesis y cet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igestión y Absorción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e los Lípidos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uadro de texto 5"/>
          <p:cNvSpPr/>
          <p:nvPr/>
        </p:nvSpPr>
        <p:spPr>
          <a:xfrm>
            <a:off x="539640" y="1214280"/>
            <a:ext cx="784872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LIPIDOS DE LA DIETA</a:t>
            </a:r>
            <a:r>
              <a:rPr b="1" lang="es-ES_tradnl" sz="2800" spc="-1" strike="noStrike">
                <a:solidFill>
                  <a:srgbClr val="000000"/>
                </a:solidFill>
                <a:latin typeface="Aharoni"/>
                <a:ea typeface="Aharon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haroni"/>
                <a:ea typeface="Aharoni"/>
              </a:rPr>
              <a:t>Triglicéridos, Fosfolípidos y Colesterol, Vitaminas liposolubles (A, D, E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adro de texto 9"/>
          <p:cNvSpPr/>
          <p:nvPr/>
        </p:nvSpPr>
        <p:spPr>
          <a:xfrm>
            <a:off x="6012000" y="3868560"/>
            <a:ext cx="241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noacilglicé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Ácidos grasos de cadena media y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ipse 10"/>
          <p:cNvSpPr/>
          <p:nvPr/>
        </p:nvSpPr>
        <p:spPr>
          <a:xfrm>
            <a:off x="785880" y="321480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ipse 11"/>
          <p:cNvSpPr/>
          <p:nvPr/>
        </p:nvSpPr>
        <p:spPr>
          <a:xfrm>
            <a:off x="773280" y="5276880"/>
            <a:ext cx="1726920" cy="115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9 Flecha curvada hacia abajo"/>
          <p:cNvSpPr/>
          <p:nvPr/>
        </p:nvSpPr>
        <p:spPr>
          <a:xfrm rot="1575000">
            <a:off x="5855760" y="3141720"/>
            <a:ext cx="1257480" cy="612720"/>
          </a:xfrm>
          <a:custGeom>
            <a:avLst/>
            <a:gdLst>
              <a:gd name="textAreaLeft" fmla="*/ 252360 w 1257480"/>
              <a:gd name="textAreaRight" fmla="*/ 871560 w 125748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634" y="0"/>
                </a:lnTo>
                <a:arcTo wR="8674" hR="21600" stAng="-5400000" swAng="1372733"/>
                <a:lnTo>
                  <a:pt x="19210" y="6710"/>
                </a:lnTo>
                <a:lnTo>
                  <a:pt x="18327" y="21600"/>
                </a:lnTo>
                <a:lnTo>
                  <a:pt x="12664" y="6710"/>
                </a:lnTo>
                <a:lnTo>
                  <a:pt x="14957" y="6710"/>
                </a:lnTo>
                <a:arcTo wR="8674" hR="21600" stAng="-4027267" swAng="-1215865"/>
                <a:lnTo>
                  <a:pt x="9654" y="138"/>
                </a:lnTo>
                <a:arcTo wR="8674" hR="21600" stAng="-5556868" swAng="-5243132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56868"/>
                <a:lnTo>
                  <a:pt x="9654" y="138"/>
                </a:lnTo>
                <a:arcTo wR="8674" hR="21600" stAng="-5556868" swAng="-524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Flecha curvada hacia abajo"/>
          <p:cNvSpPr/>
          <p:nvPr/>
        </p:nvSpPr>
        <p:spPr>
          <a:xfrm rot="8064600">
            <a:off x="6013800" y="5561640"/>
            <a:ext cx="1280880" cy="546120"/>
          </a:xfrm>
          <a:custGeom>
            <a:avLst/>
            <a:gdLst>
              <a:gd name="textAreaLeft" fmla="*/ 250920 w 1280880"/>
              <a:gd name="textAreaRight" fmla="*/ 889920 w 1280880"/>
              <a:gd name="textAreaTop" fmla="*/ 73080 h 546120"/>
              <a:gd name="textAreaBottom" fmla="*/ 473040 h 54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9" hR="21600" stAng="10800000" swAng="5400000"/>
                <a:lnTo>
                  <a:pt x="10770" y="0"/>
                </a:lnTo>
                <a:arcTo wR="8469" hR="21600" stAng="-5400000" swAng="1343596"/>
                <a:lnTo>
                  <a:pt x="19266" y="6710"/>
                </a:lnTo>
                <a:lnTo>
                  <a:pt x="18089" y="21600"/>
                </a:lnTo>
                <a:lnTo>
                  <a:pt x="12243" y="6710"/>
                </a:lnTo>
                <a:lnTo>
                  <a:pt x="14604" y="6710"/>
                </a:lnTo>
                <a:arcTo wR="8469" hR="21600" stAng="-4056404" swAng="-1158953"/>
                <a:lnTo>
                  <a:pt x="9620" y="200"/>
                </a:lnTo>
                <a:arcTo wR="8469" hR="21600" stAng="-5584643" swAng="-5215357"/>
                <a:close/>
              </a:path>
              <a:path fill="darkenLess" w="21600" h="21600">
                <a:moveTo>
                  <a:pt x="0" y="21600"/>
                </a:moveTo>
                <a:arcTo wR="8469" hR="21600" stAng="10800000" swAng="5400000"/>
                <a:lnTo>
                  <a:pt x="8469" y="0"/>
                </a:lnTo>
                <a:arcTo wR="8469" hR="21600" stAng="-5400000" swAng="184643"/>
                <a:lnTo>
                  <a:pt x="9620" y="200"/>
                </a:lnTo>
                <a:arcTo wR="8469" hR="21600" stAng="-5584643" swAng="-52153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57120" y="1785600"/>
            <a:ext cx="8569440" cy="478620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BOC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: </a:t>
            </a: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Lipasa salival 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ÓMAGO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: </a:t>
            </a: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Lipasa Gástrica 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(importante en niños)(</a:t>
            </a:r>
            <a:r>
              <a:rPr b="0" lang="es-ES" sz="1800" spc="-1" strike="noStrike">
                <a:solidFill>
                  <a:srgbClr val="0000cc"/>
                </a:solidFill>
                <a:latin typeface="Calibri"/>
              </a:rPr>
              <a:t>10-20% T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                </a:t>
            </a:r>
            <a:r>
              <a:rPr b="0" i="1" lang="es-ES" sz="2400" spc="-1" strike="noStrike">
                <a:solidFill>
                  <a:srgbClr val="0000cc"/>
                </a:solidFill>
                <a:latin typeface="Calibri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6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cc"/>
                </a:solidFill>
                <a:uFillTx/>
                <a:latin typeface="Calibri"/>
              </a:rPr>
              <a:t>Secretin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Secreción de electrolitos y  líquidos pancre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cc"/>
                </a:solidFill>
                <a:uFillTx/>
                <a:latin typeface="Calibri"/>
              </a:rPr>
              <a:t>Colecistoquinin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Contracción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Vesícula biliar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Bi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ANCREAS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Secreción de Enzim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Oval 1028"/>
          <p:cNvGrpSpPr/>
          <p:nvPr/>
        </p:nvGrpSpPr>
        <p:grpSpPr>
          <a:xfrm>
            <a:off x="334800" y="5005440"/>
            <a:ext cx="1963800" cy="689040"/>
            <a:chOff x="334800" y="5005440"/>
            <a:chExt cx="1963800" cy="689040"/>
          </a:xfrm>
        </p:grpSpPr>
        <p:pic>
          <p:nvPicPr>
            <p:cNvPr id="112" name="Oval 1028" descr=""/>
            <p:cNvPicPr/>
            <p:nvPr/>
          </p:nvPicPr>
          <p:blipFill>
            <a:blip r:embed="rId1"/>
            <a:stretch/>
          </p:blipFill>
          <p:spPr>
            <a:xfrm>
              <a:off x="334800" y="5005440"/>
              <a:ext cx="1963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41240" y="5153040"/>
              <a:ext cx="11606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síntesis por célu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duodeno y yeyun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8"/>
          <p:cNvSpPr/>
          <p:nvPr/>
        </p:nvSpPr>
        <p:spPr>
          <a:xfrm>
            <a:off x="2643120" y="5786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57240" y="500076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6929280" y="56437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32"/>
          <p:cNvSpPr/>
          <p:nvPr/>
        </p:nvSpPr>
        <p:spPr>
          <a:xfrm>
            <a:off x="4714920" y="614376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33"/>
          <p:cNvSpPr/>
          <p:nvPr/>
        </p:nvSpPr>
        <p:spPr>
          <a:xfrm>
            <a:off x="2500200" y="5857920"/>
            <a:ext cx="647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14 Grupo"/>
          <p:cNvGrpSpPr/>
          <p:nvPr/>
        </p:nvGrpSpPr>
        <p:grpSpPr>
          <a:xfrm>
            <a:off x="4071960" y="3284640"/>
            <a:ext cx="2784600" cy="1389960"/>
            <a:chOff x="4071960" y="3284640"/>
            <a:chExt cx="2784600" cy="1389960"/>
          </a:xfrm>
        </p:grpSpPr>
        <p:grpSp>
          <p:nvGrpSpPr>
            <p:cNvPr id="120" name="Group 1031"/>
            <p:cNvGrpSpPr/>
            <p:nvPr/>
          </p:nvGrpSpPr>
          <p:grpSpPr>
            <a:xfrm>
              <a:off x="4071960" y="3643200"/>
              <a:ext cx="574560" cy="792000"/>
              <a:chOff x="4071960" y="3643200"/>
              <a:chExt cx="574560" cy="792000"/>
            </a:xfrm>
          </p:grpSpPr>
          <p:sp>
            <p:nvSpPr>
              <p:cNvPr id="121" name="Line 6"/>
              <p:cNvSpPr/>
              <p:nvPr/>
            </p:nvSpPr>
            <p:spPr>
              <a:xfrm flipV="1">
                <a:off x="4071960" y="3643200"/>
                <a:ext cx="5029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7"/>
              <p:cNvSpPr/>
              <p:nvPr/>
            </p:nvSpPr>
            <p:spPr>
              <a:xfrm>
                <a:off x="4143240" y="4146480"/>
                <a:ext cx="50328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1036"/>
            <p:cNvSpPr/>
            <p:nvPr/>
          </p:nvSpPr>
          <p:spPr>
            <a:xfrm>
              <a:off x="4788000" y="3284640"/>
              <a:ext cx="187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Calibri"/>
                </a:rPr>
                <a:t>Lipasa Pancre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38"/>
            <p:cNvSpPr/>
            <p:nvPr/>
          </p:nvSpPr>
          <p:spPr>
            <a:xfrm>
              <a:off x="4786200" y="421488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Calibri"/>
                </a:rPr>
                <a:t>Sales bili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igestión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e los Líp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o 19"/>
          <p:cNvGrpSpPr/>
          <p:nvPr/>
        </p:nvGrpSpPr>
        <p:grpSpPr>
          <a:xfrm>
            <a:off x="468360" y="2178000"/>
            <a:ext cx="8675640" cy="3893760"/>
            <a:chOff x="468360" y="2178000"/>
            <a:chExt cx="8675640" cy="3893760"/>
          </a:xfrm>
        </p:grpSpPr>
        <p:pic>
          <p:nvPicPr>
            <p:cNvPr id="127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46672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Cuadro de texto 7"/>
            <p:cNvSpPr/>
            <p:nvPr/>
          </p:nvSpPr>
          <p:spPr>
            <a:xfrm>
              <a:off x="826920" y="477036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Cuadro de texto 8"/>
            <p:cNvSpPr/>
            <p:nvPr/>
          </p:nvSpPr>
          <p:spPr>
            <a:xfrm>
              <a:off x="1403280" y="28270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Cuadro de texto 9"/>
            <p:cNvSpPr/>
            <p:nvPr/>
          </p:nvSpPr>
          <p:spPr>
            <a:xfrm>
              <a:off x="4067280" y="469872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Cuadro de texto 10"/>
            <p:cNvSpPr/>
            <p:nvPr/>
          </p:nvSpPr>
          <p:spPr>
            <a:xfrm>
              <a:off x="4140360" y="369072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Cuadro de texto 11"/>
            <p:cNvSpPr/>
            <p:nvPr/>
          </p:nvSpPr>
          <p:spPr>
            <a:xfrm>
              <a:off x="2340000" y="549108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uadro de texto 12"/>
            <p:cNvSpPr/>
            <p:nvPr/>
          </p:nvSpPr>
          <p:spPr>
            <a:xfrm>
              <a:off x="6084720" y="549108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Cuadro de texto 13"/>
            <p:cNvSpPr/>
            <p:nvPr/>
          </p:nvSpPr>
          <p:spPr>
            <a:xfrm>
              <a:off x="5364000" y="256212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Cuadro de texto 14"/>
            <p:cNvSpPr/>
            <p:nvPr/>
          </p:nvSpPr>
          <p:spPr>
            <a:xfrm>
              <a:off x="7451640" y="217800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uadro de texto 15"/>
            <p:cNvSpPr/>
            <p:nvPr/>
          </p:nvSpPr>
          <p:spPr>
            <a:xfrm>
              <a:off x="7631280" y="284940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uadro de texto 16"/>
            <p:cNvSpPr/>
            <p:nvPr/>
          </p:nvSpPr>
          <p:spPr>
            <a:xfrm>
              <a:off x="7740720" y="412236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Cuadro de texto 17"/>
            <p:cNvSpPr/>
            <p:nvPr/>
          </p:nvSpPr>
          <p:spPr>
            <a:xfrm>
              <a:off x="7524720" y="549108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ángulo 20"/>
          <p:cNvSpPr/>
          <p:nvPr/>
        </p:nvSpPr>
        <p:spPr>
          <a:xfrm>
            <a:off x="5292720" y="19684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Sales biliares y emulsión de gr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adro de texto 18"/>
          <p:cNvSpPr/>
          <p:nvPr/>
        </p:nvSpPr>
        <p:spPr>
          <a:xfrm>
            <a:off x="357120" y="1496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lipas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Péptido que forma complejo con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pasa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plaza a las sales biliares, permite la unión de lipasa pancreática y la degradación de 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9 CuadroTexto"/>
          <p:cNvSpPr/>
          <p:nvPr/>
        </p:nvSpPr>
        <p:spPr>
          <a:xfrm>
            <a:off x="214200" y="599760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enido interno de las micelas: compuestos finales de la di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AG, AG cadena larga, lisofosfolípidos, colesterol, vitaminas liposolu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Función de las sales b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600" cy="5286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umentan la acción de la lip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Reducen la tensión superficial (emulsión de gras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Favorecen la absorción de vitami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cción colerética (estimulan la producción de bil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uando alcanzan concentración crítica forman las “micela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Mantienen los lípidos en pequeñas micelas en suspensión en el medio acuoso del contenido intestinal y aumentan la superficie de ataque de las enzimas li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3"/>
          <p:cNvGrpSpPr/>
          <p:nvPr/>
        </p:nvGrpSpPr>
        <p:grpSpPr>
          <a:xfrm>
            <a:off x="378000" y="2097000"/>
            <a:ext cx="8369280" cy="4297320"/>
            <a:chOff x="378000" y="2097000"/>
            <a:chExt cx="8369280" cy="4297320"/>
          </a:xfrm>
        </p:grpSpPr>
        <p:pic>
          <p:nvPicPr>
            <p:cNvPr id="147" name="Rectangle 3" descr=""/>
            <p:cNvPicPr/>
            <p:nvPr/>
          </p:nvPicPr>
          <p:blipFill>
            <a:blip r:embed="rId1"/>
            <a:stretch/>
          </p:blipFill>
          <p:spPr>
            <a:xfrm>
              <a:off x="378000" y="2097000"/>
              <a:ext cx="836928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9640" y="2205000"/>
              <a:ext cx="80773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28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</a:t>
              </a:r>
              <a:r>
                <a:rPr b="0" lang="es-E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-</a:t>
              </a: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 lipasa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c0504d"/>
                  </a:solidFill>
                  <a:latin typeface="Arial"/>
                </a:rPr>
                <a:t>    </a:t>
              </a:r>
              <a:r>
                <a:rPr b="0" lang="es-ES" sz="2800" spc="-1" strike="noStrike">
                  <a:solidFill>
                    <a:srgbClr val="c0504d"/>
                  </a:solidFill>
                  <a:latin typeface="Arial"/>
                </a:rPr>
                <a:t>Ataca uniones ésteres de posición 1 y 3 de los TG dejando monoglicéridos esterificados en 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Esterasa</a:t>
              </a: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 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s-ES" sz="2800" spc="-1" strike="noStrike">
                  <a:solidFill>
                    <a:srgbClr val="3333cc"/>
                  </a:solidFill>
                  <a:latin typeface="Arial"/>
                </a:rPr>
                <a:t>Hidroliza la unión 2 del monoglicéri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Fosfolipasa A</a:t>
              </a:r>
              <a:r>
                <a:rPr b="1" i="1" lang="es-ES" sz="2800" spc="-1" strike="noStrike" u="sng" baseline="-25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s-ES" sz="2800" spc="-1" strike="noStrike">
                  <a:solidFill>
                    <a:srgbClr val="3333cc"/>
                  </a:solidFill>
                  <a:latin typeface="Arial"/>
                </a:rPr>
                <a:t>Actúa s/C 2 de leciti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Fosfatasa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s-ES" sz="2800" spc="-1" strike="noStrike">
                  <a:solidFill>
                    <a:srgbClr val="3333cc"/>
                  </a:solidFill>
                  <a:latin typeface="Arial"/>
                </a:rPr>
                <a:t>Hidroliza unión fosfato de lisoleciti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Colesterol esterasa</a:t>
              </a:r>
              <a:r>
                <a:rPr b="0" lang="es-ES" sz="2800" spc="-1" strike="noStrike">
                  <a:solidFill>
                    <a:srgbClr val="ff0000"/>
                  </a:solidFill>
                  <a:latin typeface="Calibri"/>
                </a:rPr>
                <a:t>: </a:t>
              </a:r>
              <a:r>
                <a:rPr b="0" lang="es-ES" sz="2800" spc="-1" strike="noStrike">
                  <a:solidFill>
                    <a:srgbClr val="ff0000"/>
                  </a:solidFill>
                  <a:latin typeface="Arial"/>
                </a:rPr>
                <a:t>Actúa s/ésteres de colester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033"/>
          <p:cNvGrpSpPr/>
          <p:nvPr/>
        </p:nvGrpSpPr>
        <p:grpSpPr>
          <a:xfrm>
            <a:off x="684360" y="1628640"/>
            <a:ext cx="7777080" cy="368280"/>
            <a:chOff x="684360" y="1628640"/>
            <a:chExt cx="7777080" cy="368280"/>
          </a:xfrm>
        </p:grpSpPr>
        <p:sp>
          <p:nvSpPr>
            <p:cNvPr id="150" name="Text Box 1031"/>
            <p:cNvSpPr/>
            <p:nvPr/>
          </p:nvSpPr>
          <p:spPr>
            <a:xfrm>
              <a:off x="684360" y="1628640"/>
              <a:ext cx="777708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IGLICERIDOS                 GLICEROL  +  AC. GR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32"/>
            <p:cNvSpPr/>
            <p:nvPr/>
          </p:nvSpPr>
          <p:spPr>
            <a:xfrm>
              <a:off x="2637000" y="1844640"/>
              <a:ext cx="7920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igestión de los Lípidos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Enzimas diges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160" name="Group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161" name="Group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162" name="Rectangle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Rectangle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0"/>
          <p:cNvSpPr/>
          <p:nvPr/>
        </p:nvSpPr>
        <p:spPr>
          <a:xfrm>
            <a:off x="395280" y="303120"/>
            <a:ext cx="8353440" cy="921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gestión de Triglicér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cción de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Lipasa Pancre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178" name="Group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179" name="Group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180" name="Rectangle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Rectangle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9"/>
          <p:cNvSpPr/>
          <p:nvPr/>
        </p:nvSpPr>
        <p:spPr>
          <a:xfrm>
            <a:off x="4356000" y="2060640"/>
            <a:ext cx="1368360" cy="368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Est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81"/>
          <p:cNvSpPr/>
          <p:nvPr/>
        </p:nvSpPr>
        <p:spPr>
          <a:xfrm>
            <a:off x="4716360" y="2492280"/>
            <a:ext cx="486000" cy="204156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135 Grupo"/>
          <p:cNvGrpSpPr/>
          <p:nvPr/>
        </p:nvGrpSpPr>
        <p:grpSpPr>
          <a:xfrm>
            <a:off x="250920" y="2997360"/>
            <a:ext cx="7388280" cy="3148200"/>
            <a:chOff x="250920" y="2997360"/>
            <a:chExt cx="7388280" cy="3148200"/>
          </a:xfrm>
        </p:grpSpPr>
        <p:grpSp>
          <p:nvGrpSpPr>
            <p:cNvPr id="194" name="134 Grupo"/>
            <p:cNvGrpSpPr/>
            <p:nvPr/>
          </p:nvGrpSpPr>
          <p:grpSpPr>
            <a:xfrm>
              <a:off x="250920" y="2997360"/>
              <a:ext cx="7388280" cy="3148200"/>
              <a:chOff x="250920" y="2997360"/>
              <a:chExt cx="7388280" cy="3148200"/>
            </a:xfrm>
          </p:grpSpPr>
          <p:sp>
            <p:nvSpPr>
              <p:cNvPr id="195" name="Rectangle 107"/>
              <p:cNvSpPr/>
              <p:nvPr/>
            </p:nvSpPr>
            <p:spPr>
              <a:xfrm>
                <a:off x="3158640" y="4214880"/>
                <a:ext cx="14608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00000"/>
                    </a:solidFill>
                    <a:latin typeface="Arial"/>
                  </a:rPr>
                  <a:t>Lip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00000"/>
                    </a:solidFill>
                    <a:latin typeface="Arial"/>
                  </a:rPr>
                  <a:t>Pancreátic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H 6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2"/>
              <p:cNvSpPr/>
              <p:nvPr/>
            </p:nvSpPr>
            <p:spPr>
              <a:xfrm>
                <a:off x="4650840" y="5589720"/>
                <a:ext cx="1872360" cy="34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glicéri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155"/>
              <p:cNvGrpSpPr/>
              <p:nvPr/>
            </p:nvGrpSpPr>
            <p:grpSpPr>
              <a:xfrm>
                <a:off x="4859640" y="3852720"/>
                <a:ext cx="2779560" cy="1618200"/>
                <a:chOff x="4859640" y="3852720"/>
                <a:chExt cx="2779560" cy="1618200"/>
              </a:xfrm>
            </p:grpSpPr>
            <p:grpSp>
              <p:nvGrpSpPr>
                <p:cNvPr id="198" name="Group 153"/>
                <p:cNvGrpSpPr/>
                <p:nvPr/>
              </p:nvGrpSpPr>
              <p:grpSpPr>
                <a:xfrm>
                  <a:off x="4859640" y="3852720"/>
                  <a:ext cx="2779560" cy="1618200"/>
                  <a:chOff x="4859640" y="3852720"/>
                  <a:chExt cx="2779560" cy="1618200"/>
                </a:xfrm>
              </p:grpSpPr>
              <p:grpSp>
                <p:nvGrpSpPr>
                  <p:cNvPr id="199" name="Group 150"/>
                  <p:cNvGrpSpPr/>
                  <p:nvPr/>
                </p:nvGrpSpPr>
                <p:grpSpPr>
                  <a:xfrm>
                    <a:off x="4859640" y="3852720"/>
                    <a:ext cx="2779560" cy="1618200"/>
                    <a:chOff x="4859640" y="3852720"/>
                    <a:chExt cx="2779560" cy="1618200"/>
                  </a:xfrm>
                </p:grpSpPr>
                <p:grpSp>
                  <p:nvGrpSpPr>
                    <p:cNvPr id="200" name="Group 141"/>
                    <p:cNvGrpSpPr/>
                    <p:nvPr/>
                  </p:nvGrpSpPr>
                  <p:grpSpPr>
                    <a:xfrm>
                      <a:off x="4859640" y="3852720"/>
                      <a:ext cx="2779560" cy="1618200"/>
                      <a:chOff x="4859640" y="3852720"/>
                      <a:chExt cx="2779560" cy="1618200"/>
                    </a:xfrm>
                  </p:grpSpPr>
                  <p:grpSp>
                    <p:nvGrpSpPr>
                      <p:cNvPr id="201" name="Group 140"/>
                      <p:cNvGrpSpPr/>
                      <p:nvPr/>
                    </p:nvGrpSpPr>
                    <p:grpSpPr>
                      <a:xfrm>
                        <a:off x="4859640" y="3852720"/>
                        <a:ext cx="2779560" cy="1618200"/>
                        <a:chOff x="4859640" y="3852720"/>
                        <a:chExt cx="2779560" cy="1618200"/>
                      </a:xfrm>
                    </p:grpSpPr>
                    <p:grpSp>
                      <p:nvGrpSpPr>
                        <p:cNvPr id="202" name="Group 139"/>
                        <p:cNvGrpSpPr/>
                        <p:nvPr/>
                      </p:nvGrpSpPr>
                      <p:grpSpPr>
                        <a:xfrm>
                          <a:off x="4859640" y="3852720"/>
                          <a:ext cx="2779560" cy="1618200"/>
                          <a:chOff x="4859640" y="3852720"/>
                          <a:chExt cx="2779560" cy="1618200"/>
                        </a:xfrm>
                      </p:grpSpPr>
                      <p:sp>
                        <p:nvSpPr>
                          <p:cNvPr id="203" name="Rectangle 55"/>
                          <p:cNvSpPr/>
                          <p:nvPr/>
                        </p:nvSpPr>
                        <p:spPr>
                          <a:xfrm>
                            <a:off x="5182920" y="38602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4" name="Rectangle 57"/>
                          <p:cNvSpPr/>
                          <p:nvPr/>
                        </p:nvSpPr>
                        <p:spPr>
                          <a:xfrm>
                            <a:off x="4859640" y="442872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5" name="Rectangle 84"/>
                          <p:cNvSpPr/>
                          <p:nvPr/>
                        </p:nvSpPr>
                        <p:spPr>
                          <a:xfrm>
                            <a:off x="5891040" y="44524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" name="Rectangle 85"/>
                          <p:cNvSpPr/>
                          <p:nvPr/>
                        </p:nvSpPr>
                        <p:spPr>
                          <a:xfrm>
                            <a:off x="6300720" y="4452480"/>
                            <a:ext cx="86796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" name="Rectangle 90"/>
                          <p:cNvSpPr/>
                          <p:nvPr/>
                        </p:nvSpPr>
                        <p:spPr>
                          <a:xfrm>
                            <a:off x="5867280" y="4114440"/>
                            <a:ext cx="3157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" name="Rectangle 92"/>
                          <p:cNvSpPr/>
                          <p:nvPr/>
                        </p:nvSpPr>
                        <p:spPr>
                          <a:xfrm>
                            <a:off x="7100280" y="445248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" name="Rectangle 103"/>
                          <p:cNvSpPr/>
                          <p:nvPr/>
                        </p:nvSpPr>
                        <p:spPr>
                          <a:xfrm>
                            <a:off x="4916160" y="5076360"/>
                            <a:ext cx="310320" cy="368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800" spc="-1" strike="noStrike">
                                <a:solidFill>
                                  <a:srgbClr val="000000"/>
                                </a:solidFill>
                                <a:latin typeface="Symbol"/>
                                <a:ea typeface="Symbol"/>
                              </a:rPr>
                              <a:t>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0" name="Rectangle 106"/>
                          <p:cNvSpPr/>
                          <p:nvPr/>
                        </p:nvSpPr>
                        <p:spPr>
                          <a:xfrm>
                            <a:off x="5435640" y="5100120"/>
                            <a:ext cx="43128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1" name="Rectangle 54"/>
                          <p:cNvSpPr/>
                          <p:nvPr/>
                        </p:nvSpPr>
                        <p:spPr>
                          <a:xfrm>
                            <a:off x="5148360" y="4428720"/>
                            <a:ext cx="32976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2" name="Line 59"/>
                          <p:cNvSpPr/>
                          <p:nvPr/>
                        </p:nvSpPr>
                        <p:spPr>
                          <a:xfrm>
                            <a:off x="5292720" y="4141440"/>
                            <a:ext cx="0" cy="36936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68"/>
                          <p:cNvSpPr/>
                          <p:nvPr/>
                        </p:nvSpPr>
                        <p:spPr>
                          <a:xfrm>
                            <a:off x="5292720" y="4716000"/>
                            <a:ext cx="0" cy="36972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87"/>
                          <p:cNvSpPr/>
                          <p:nvPr/>
                        </p:nvSpPr>
                        <p:spPr>
                          <a:xfrm>
                            <a:off x="7020000" y="466848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86"/>
                          <p:cNvSpPr/>
                          <p:nvPr/>
                        </p:nvSpPr>
                        <p:spPr>
                          <a:xfrm>
                            <a:off x="6156360" y="464472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Rectangle 73"/>
                          <p:cNvSpPr/>
                          <p:nvPr/>
                        </p:nvSpPr>
                        <p:spPr>
                          <a:xfrm>
                            <a:off x="5508720" y="4428720"/>
                            <a:ext cx="2804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Rectangle 105"/>
                          <p:cNvSpPr/>
                          <p:nvPr/>
                        </p:nvSpPr>
                        <p:spPr>
                          <a:xfrm>
                            <a:off x="5435640" y="3852720"/>
                            <a:ext cx="43776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Rectangle 102"/>
                        <p:cNvSpPr/>
                        <p:nvPr/>
                      </p:nvSpPr>
                      <p:spPr>
                        <a:xfrm>
                          <a:off x="5364000" y="4068360"/>
                          <a:ext cx="301320" cy="3682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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Rectangle 104"/>
                        <p:cNvSpPr/>
                        <p:nvPr/>
                      </p:nvSpPr>
                      <p:spPr>
                        <a:xfrm>
                          <a:off x="5294160" y="4668480"/>
                          <a:ext cx="29196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" name="Line 61"/>
                        <p:cNvSpPr/>
                        <p:nvPr/>
                      </p:nvSpPr>
                      <p:spPr>
                        <a:xfrm>
                          <a:off x="5796000" y="4644720"/>
                          <a:ext cx="1216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" name="Line 88"/>
                        <p:cNvSpPr/>
                        <p:nvPr/>
                      </p:nvSpPr>
                      <p:spPr>
                        <a:xfrm>
                          <a:off x="6012000" y="4357440"/>
                          <a:ext cx="1080" cy="1216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" name="Line 89"/>
                        <p:cNvSpPr/>
                        <p:nvPr/>
                      </p:nvSpPr>
                      <p:spPr>
                        <a:xfrm>
                          <a:off x="6067440" y="4368600"/>
                          <a:ext cx="0" cy="1216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60"/>
                        <p:cNvSpPr/>
                        <p:nvPr/>
                      </p:nvSpPr>
                      <p:spPr>
                        <a:xfrm>
                          <a:off x="5435640" y="4644720"/>
                          <a:ext cx="1216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24" name="Rectangle 64"/>
                      <p:cNvSpPr/>
                      <p:nvPr/>
                    </p:nvSpPr>
                    <p:spPr>
                      <a:xfrm>
                        <a:off x="5170320" y="5108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5" name="Rectangle 149"/>
                    <p:cNvSpPr/>
                    <p:nvPr/>
                  </p:nvSpPr>
                  <p:spPr>
                    <a:xfrm>
                      <a:off x="4932360" y="5084640"/>
                      <a:ext cx="286920" cy="360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6" name="Rectangle 152"/>
                  <p:cNvSpPr/>
                  <p:nvPr/>
                </p:nvSpPr>
                <p:spPr>
                  <a:xfrm>
                    <a:off x="5364000" y="4724280"/>
                    <a:ext cx="21564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Rectangle 154"/>
                <p:cNvSpPr/>
                <p:nvPr/>
              </p:nvSpPr>
              <p:spPr>
                <a:xfrm>
                  <a:off x="5364000" y="4221000"/>
                  <a:ext cx="287280" cy="14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178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229" name="Rectangle 47"/>
                <p:cNvSpPr/>
                <p:nvPr/>
              </p:nvSpPr>
              <p:spPr>
                <a:xfrm>
                  <a:off x="1227240" y="4317840"/>
                  <a:ext cx="2808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" name="Group 177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231" name="Rectangle 49"/>
                  <p:cNvSpPr/>
                  <p:nvPr/>
                </p:nvSpPr>
                <p:spPr>
                  <a:xfrm>
                    <a:off x="2417400" y="457992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tangle 163"/>
                  <p:cNvSpPr/>
                  <p:nvPr/>
                </p:nvSpPr>
                <p:spPr>
                  <a:xfrm>
                    <a:off x="1617840" y="457992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64"/>
                  <p:cNvSpPr/>
                  <p:nvPr/>
                </p:nvSpPr>
                <p:spPr>
                  <a:xfrm>
                    <a:off x="2289240" y="472428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4" name="Group 176"/>
                  <p:cNvGrpSpPr/>
                  <p:nvPr/>
                </p:nvGrpSpPr>
                <p:grpSpPr>
                  <a:xfrm>
                    <a:off x="250920" y="2997360"/>
                    <a:ext cx="2705400" cy="3148200"/>
                    <a:chOff x="250920" y="2997360"/>
                    <a:chExt cx="2705400" cy="3148200"/>
                  </a:xfrm>
                </p:grpSpPr>
                <p:sp>
                  <p:nvSpPr>
                    <p:cNvPr id="235" name="Rectangle 13"/>
                    <p:cNvSpPr/>
                    <p:nvPr/>
                  </p:nvSpPr>
                  <p:spPr>
                    <a:xfrm>
                      <a:off x="574560" y="4962240"/>
                      <a:ext cx="3016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Rectangle 12"/>
                    <p:cNvSpPr/>
                    <p:nvPr/>
                  </p:nvSpPr>
                  <p:spPr>
                    <a:xfrm>
                      <a:off x="561960" y="461808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Line 14"/>
                    <p:cNvSpPr/>
                    <p:nvPr/>
                  </p:nvSpPr>
                  <p:spPr>
                    <a:xfrm>
                      <a:off x="736560" y="4878360"/>
                      <a:ext cx="0" cy="139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Rectangle 17"/>
                    <p:cNvSpPr/>
                    <p:nvPr/>
                  </p:nvSpPr>
                  <p:spPr>
                    <a:xfrm>
                      <a:off x="258840" y="4627440"/>
                      <a:ext cx="3016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Line 18"/>
                    <p:cNvSpPr/>
                    <p:nvPr/>
                  </p:nvSpPr>
                  <p:spPr>
                    <a:xfrm>
                      <a:off x="514440" y="477360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Rectangle 22"/>
                    <p:cNvSpPr/>
                    <p:nvPr/>
                  </p:nvSpPr>
                  <p:spPr>
                    <a:xfrm>
                      <a:off x="952560" y="462600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Rectangle 41"/>
                    <p:cNvSpPr/>
                    <p:nvPr/>
                  </p:nvSpPr>
                  <p:spPr>
                    <a:xfrm>
                      <a:off x="1218960" y="462420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43"/>
                    <p:cNvSpPr/>
                    <p:nvPr/>
                  </p:nvSpPr>
                  <p:spPr>
                    <a:xfrm>
                      <a:off x="1460520" y="478620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15"/>
                    <p:cNvSpPr/>
                    <p:nvPr/>
                  </p:nvSpPr>
                  <p:spPr>
                    <a:xfrm>
                      <a:off x="838080" y="476892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Line 46"/>
                    <p:cNvSpPr/>
                    <p:nvPr/>
                  </p:nvSpPr>
                  <p:spPr>
                    <a:xfrm>
                      <a:off x="1417680" y="459108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5" name="Group 170"/>
                    <p:cNvGrpSpPr/>
                    <p:nvPr/>
                  </p:nvGrpSpPr>
                  <p:grpSpPr>
                    <a:xfrm>
                      <a:off x="250920" y="2997360"/>
                      <a:ext cx="2705400" cy="3148200"/>
                      <a:chOff x="250920" y="2997360"/>
                      <a:chExt cx="2705400" cy="3148200"/>
                    </a:xfrm>
                  </p:grpSpPr>
                  <p:sp>
                    <p:nvSpPr>
                      <p:cNvPr id="246" name="Rectangle 40"/>
                      <p:cNvSpPr/>
                      <p:nvPr/>
                    </p:nvSpPr>
                    <p:spPr>
                      <a:xfrm>
                        <a:off x="2417400" y="40050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Rectangle 32"/>
                      <p:cNvSpPr/>
                      <p:nvPr/>
                    </p:nvSpPr>
                    <p:spPr>
                      <a:xfrm>
                        <a:off x="1222200" y="40050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Rectangle 38"/>
                      <p:cNvSpPr/>
                      <p:nvPr/>
                    </p:nvSpPr>
                    <p:spPr>
                      <a:xfrm>
                        <a:off x="1209600" y="367956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Line 34"/>
                      <p:cNvSpPr/>
                      <p:nvPr/>
                    </p:nvSpPr>
                    <p:spPr>
                      <a:xfrm>
                        <a:off x="1460520" y="413352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Line 35"/>
                      <p:cNvSpPr/>
                      <p:nvPr/>
                    </p:nvSpPr>
                    <p:spPr>
                      <a:xfrm>
                        <a:off x="1162080" y="41637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Line 36"/>
                      <p:cNvSpPr/>
                      <p:nvPr/>
                    </p:nvSpPr>
                    <p:spPr>
                      <a:xfrm>
                        <a:off x="1347840" y="3956040"/>
                        <a:ext cx="144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Line 37"/>
                      <p:cNvSpPr/>
                      <p:nvPr/>
                    </p:nvSpPr>
                    <p:spPr>
                      <a:xfrm>
                        <a:off x="1403280" y="3954240"/>
                        <a:ext cx="0" cy="1220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Rectangle 162"/>
                      <p:cNvSpPr/>
                      <p:nvPr/>
                    </p:nvSpPr>
                    <p:spPr>
                      <a:xfrm>
                        <a:off x="1617840" y="40050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Line 165"/>
                      <p:cNvSpPr/>
                      <p:nvPr/>
                    </p:nvSpPr>
                    <p:spPr>
                      <a:xfrm>
                        <a:off x="2289240" y="4147920"/>
                        <a:ext cx="120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5" name="Group 169"/>
                      <p:cNvGrpSpPr/>
                      <p:nvPr/>
                    </p:nvGrpSpPr>
                    <p:grpSpPr>
                      <a:xfrm>
                        <a:off x="250920" y="2997360"/>
                        <a:ext cx="2562480" cy="3148200"/>
                        <a:chOff x="250920" y="2997360"/>
                        <a:chExt cx="2562480" cy="3148200"/>
                      </a:xfrm>
                    </p:grpSpPr>
                    <p:sp>
                      <p:nvSpPr>
                        <p:cNvPr id="256" name="Rectangle 29"/>
                        <p:cNvSpPr/>
                        <p:nvPr/>
                      </p:nvSpPr>
                      <p:spPr>
                        <a:xfrm>
                          <a:off x="1225440" y="299736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Rectangle 24"/>
                        <p:cNvSpPr/>
                        <p:nvPr/>
                      </p:nvSpPr>
                      <p:spPr>
                        <a:xfrm>
                          <a:off x="1528920" y="3350880"/>
                          <a:ext cx="8683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)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30"/>
                        <p:cNvSpPr/>
                        <p:nvPr/>
                      </p:nvSpPr>
                      <p:spPr>
                        <a:xfrm>
                          <a:off x="2203560" y="35240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Rectangle 31"/>
                        <p:cNvSpPr/>
                        <p:nvPr/>
                      </p:nvSpPr>
                      <p:spPr>
                        <a:xfrm>
                          <a:off x="2274480" y="3355920"/>
                          <a:ext cx="5389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27"/>
                        <p:cNvSpPr/>
                        <p:nvPr/>
                      </p:nvSpPr>
                      <p:spPr>
                        <a:xfrm>
                          <a:off x="1346400" y="3286080"/>
                          <a:ext cx="1440" cy="1011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Line 28"/>
                        <p:cNvSpPr/>
                        <p:nvPr/>
                      </p:nvSpPr>
                      <p:spPr>
                        <a:xfrm>
                          <a:off x="1403280" y="3284280"/>
                          <a:ext cx="0" cy="1220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Rectangle 23"/>
                        <p:cNvSpPr/>
                        <p:nvPr/>
                      </p:nvSpPr>
                      <p:spPr>
                        <a:xfrm>
                          <a:off x="1217520" y="33541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63" name="Group 168"/>
                        <p:cNvGrpSpPr/>
                        <p:nvPr/>
                      </p:nvGrpSpPr>
                      <p:grpSpPr>
                        <a:xfrm>
                          <a:off x="250920" y="3022560"/>
                          <a:ext cx="2506320" cy="3123000"/>
                          <a:chOff x="250920" y="3022560"/>
                          <a:chExt cx="2506320" cy="3123000"/>
                        </a:xfrm>
                      </p:grpSpPr>
                      <p:sp>
                        <p:nvSpPr>
                          <p:cNvPr id="264" name="Rectangle 21"/>
                          <p:cNvSpPr/>
                          <p:nvPr/>
                        </p:nvSpPr>
                        <p:spPr>
                          <a:xfrm>
                            <a:off x="930240" y="3982680"/>
                            <a:ext cx="28116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Rectangle 5"/>
                          <p:cNvSpPr/>
                          <p:nvPr/>
                        </p:nvSpPr>
                        <p:spPr>
                          <a:xfrm>
                            <a:off x="250920" y="3993480"/>
                            <a:ext cx="3016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6" name="Rectangle 2"/>
                          <p:cNvSpPr/>
                          <p:nvPr/>
                        </p:nvSpPr>
                        <p:spPr>
                          <a:xfrm>
                            <a:off x="576360" y="397944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7" name="Line 8"/>
                          <p:cNvSpPr/>
                          <p:nvPr/>
                        </p:nvSpPr>
                        <p:spPr>
                          <a:xfrm>
                            <a:off x="860400" y="4133160"/>
                            <a:ext cx="12240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9"/>
                          <p:cNvSpPr/>
                          <p:nvPr/>
                        </p:nvSpPr>
                        <p:spPr>
                          <a:xfrm>
                            <a:off x="523800" y="4177800"/>
                            <a:ext cx="12240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9" name="Group 167"/>
                          <p:cNvGrpSpPr/>
                          <p:nvPr/>
                        </p:nvGrpSpPr>
                        <p:grpSpPr>
                          <a:xfrm>
                            <a:off x="252360" y="3022560"/>
                            <a:ext cx="2504880" cy="3123000"/>
                            <a:chOff x="252360" y="3022560"/>
                            <a:chExt cx="2504880" cy="3123000"/>
                          </a:xfrm>
                        </p:grpSpPr>
                        <p:sp>
                          <p:nvSpPr>
                            <p:cNvPr id="270" name="Rectangle 108"/>
                            <p:cNvSpPr/>
                            <p:nvPr/>
                          </p:nvSpPr>
                          <p:spPr>
                            <a:xfrm>
                              <a:off x="1203480" y="5805000"/>
                              <a:ext cx="1553760" cy="34056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 algn="ctr">
                                <a:lnSpc>
                                  <a:spcPct val="9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Triglicéridos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1" name="Rectangle 4"/>
                            <p:cNvSpPr/>
                            <p:nvPr/>
                          </p:nvSpPr>
                          <p:spPr>
                            <a:xfrm>
                              <a:off x="893880" y="3350520"/>
                              <a:ext cx="28260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O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2" name="Rectangle 3"/>
                            <p:cNvSpPr/>
                            <p:nvPr/>
                          </p:nvSpPr>
                          <p:spPr>
                            <a:xfrm>
                              <a:off x="574560" y="3377520"/>
                              <a:ext cx="3268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C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3" name="Rectangle 11"/>
                            <p:cNvSpPr/>
                            <p:nvPr/>
                          </p:nvSpPr>
                          <p:spPr>
                            <a:xfrm>
                              <a:off x="585720" y="3022560"/>
                              <a:ext cx="3016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4" name="Rectangle 19"/>
                            <p:cNvSpPr/>
                            <p:nvPr/>
                          </p:nvSpPr>
                          <p:spPr>
                            <a:xfrm>
                              <a:off x="252360" y="3355560"/>
                              <a:ext cx="3016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5" name="Line 20"/>
                            <p:cNvSpPr/>
                            <p:nvPr/>
                          </p:nvSpPr>
                          <p:spPr>
                            <a:xfrm>
                              <a:off x="466920" y="3492000"/>
                              <a:ext cx="147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6" name="Line 6"/>
                            <p:cNvSpPr/>
                            <p:nvPr/>
                          </p:nvSpPr>
                          <p:spPr>
                            <a:xfrm>
                              <a:off x="723960" y="3282480"/>
                              <a:ext cx="0" cy="1407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7" name="Line 10"/>
                            <p:cNvSpPr/>
                            <p:nvPr/>
                          </p:nvSpPr>
                          <p:spPr>
                            <a:xfrm>
                              <a:off x="819360" y="3495240"/>
                              <a:ext cx="120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8" name="Line 26"/>
                            <p:cNvSpPr/>
                            <p:nvPr/>
                          </p:nvSpPr>
                          <p:spPr>
                            <a:xfrm>
                              <a:off x="1176480" y="3507840"/>
                              <a:ext cx="120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79" name="Line 159"/>
                          <p:cNvSpPr/>
                          <p:nvPr/>
                        </p:nvSpPr>
                        <p:spPr>
                          <a:xfrm>
                            <a:off x="754200" y="3644280"/>
                            <a:ext cx="0" cy="3585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160"/>
                          <p:cNvSpPr/>
                          <p:nvPr/>
                        </p:nvSpPr>
                        <p:spPr>
                          <a:xfrm>
                            <a:off x="754200" y="4293720"/>
                            <a:ext cx="0" cy="3582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81" name="Line 25"/>
                        <p:cNvSpPr/>
                        <p:nvPr/>
                      </p:nvSpPr>
                      <p:spPr>
                        <a:xfrm>
                          <a:off x="1460520" y="351612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Line 44"/>
                    <p:cNvSpPr/>
                    <p:nvPr/>
                  </p:nvSpPr>
                  <p:spPr>
                    <a:xfrm>
                      <a:off x="1162080" y="479736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75"/>
                    <p:cNvSpPr/>
                    <p:nvPr/>
                  </p:nvSpPr>
                  <p:spPr>
                    <a:xfrm>
                      <a:off x="1366920" y="457812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84" name="Text Box 182"/>
              <p:cNvSpPr/>
              <p:nvPr/>
            </p:nvSpPr>
            <p:spPr>
              <a:xfrm>
                <a:off x="5220000" y="378936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183"/>
              <p:cNvSpPr/>
              <p:nvPr/>
            </p:nvSpPr>
            <p:spPr>
              <a:xfrm>
                <a:off x="5148360" y="508464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Line 133"/>
            <p:cNvSpPr/>
            <p:nvPr/>
          </p:nvSpPr>
          <p:spPr>
            <a:xfrm>
              <a:off x="3348000" y="494208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289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Cuadro de texto 15"/>
          <p:cNvSpPr/>
          <p:nvPr/>
        </p:nvSpPr>
        <p:spPr>
          <a:xfrm>
            <a:off x="4643280" y="2286000"/>
            <a:ext cx="162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adro de texto 14"/>
          <p:cNvSpPr/>
          <p:nvPr/>
        </p:nvSpPr>
        <p:spPr>
          <a:xfrm>
            <a:off x="3429000" y="6000840"/>
            <a:ext cx="172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294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orma libre 16"/>
            <p:cNvSpPr/>
            <p:nvPr/>
          </p:nvSpPr>
          <p:spPr>
            <a:xfrm>
              <a:off x="2482920" y="2384280"/>
              <a:ext cx="287280" cy="1584360"/>
            </a:xfrm>
            <a:prstGeom prst="pie">
              <a:avLst/>
            </a:pr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Forma libre 16"/>
          <p:cNvSpPr/>
          <p:nvPr/>
        </p:nvSpPr>
        <p:spPr>
          <a:xfrm flipH="1" rot="10518000">
            <a:off x="3493080" y="4368960"/>
            <a:ext cx="353880" cy="158400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rma libre 16"/>
          <p:cNvSpPr/>
          <p:nvPr/>
        </p:nvSpPr>
        <p:spPr>
          <a:xfrm flipH="1">
            <a:off x="4500000" y="2786040"/>
            <a:ext cx="500040" cy="158436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Text Box 5"/>
          <p:cNvGrpSpPr/>
          <p:nvPr/>
        </p:nvGrpSpPr>
        <p:grpSpPr>
          <a:xfrm>
            <a:off x="628560" y="85680"/>
            <a:ext cx="7882200" cy="1219320"/>
            <a:chOff x="628560" y="85680"/>
            <a:chExt cx="7882200" cy="1219320"/>
          </a:xfrm>
        </p:grpSpPr>
        <p:pic>
          <p:nvPicPr>
            <p:cNvPr id="299" name="Text Box 5" descr=""/>
            <p:cNvPicPr/>
            <p:nvPr/>
          </p:nvPicPr>
          <p:blipFill>
            <a:blip r:embed="rId1"/>
            <a:stretch/>
          </p:blipFill>
          <p:spPr>
            <a:xfrm>
              <a:off x="628560" y="85680"/>
              <a:ext cx="7882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826920" y="260280"/>
              <a:ext cx="749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199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c00000"/>
                  </a:solidFill>
                  <a:latin typeface="Arial"/>
                </a:rPr>
                <a:t>Absorción de Lípido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6"/>
          <p:cNvSpPr/>
          <p:nvPr/>
        </p:nvSpPr>
        <p:spPr>
          <a:xfrm>
            <a:off x="755640" y="2492280"/>
            <a:ext cx="3456000" cy="78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.GRASO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NOGLICE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3"/>
          <p:cNvGrpSpPr/>
          <p:nvPr/>
        </p:nvGrpSpPr>
        <p:grpSpPr>
          <a:xfrm>
            <a:off x="5472000" y="2286000"/>
            <a:ext cx="3529080" cy="1655640"/>
            <a:chOff x="5472000" y="2286000"/>
            <a:chExt cx="3529080" cy="1655640"/>
          </a:xfrm>
        </p:grpSpPr>
        <p:sp>
          <p:nvSpPr>
            <p:cNvPr id="303" name="Oval 11"/>
            <p:cNvSpPr/>
            <p:nvPr/>
          </p:nvSpPr>
          <p:spPr>
            <a:xfrm>
              <a:off x="5472000" y="2286000"/>
              <a:ext cx="3529080" cy="1655640"/>
            </a:xfrm>
            <a:prstGeom prst="ellipse">
              <a:avLst/>
            </a:prstGeom>
            <a:solidFill>
              <a:srgbClr val="ff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7"/>
            <p:cNvSpPr/>
            <p:nvPr/>
          </p:nvSpPr>
          <p:spPr>
            <a:xfrm>
              <a:off x="5575320" y="2502000"/>
              <a:ext cx="331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traviesan la membrana del enterocito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fusión 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Text Box 8"/>
          <p:cNvGrpSpPr/>
          <p:nvPr/>
        </p:nvGrpSpPr>
        <p:grpSpPr>
          <a:xfrm>
            <a:off x="890640" y="1616040"/>
            <a:ext cx="6789600" cy="395280"/>
            <a:chOff x="890640" y="1616040"/>
            <a:chExt cx="6789600" cy="395280"/>
          </a:xfrm>
        </p:grpSpPr>
        <p:pic>
          <p:nvPicPr>
            <p:cNvPr id="306" name="Text Box 8" descr=""/>
            <p:cNvPicPr/>
            <p:nvPr/>
          </p:nvPicPr>
          <p:blipFill>
            <a:blip r:embed="rId2"/>
            <a:stretch/>
          </p:blipFill>
          <p:spPr>
            <a:xfrm>
              <a:off x="890640" y="1616040"/>
              <a:ext cx="67896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900000" y="1628640"/>
              <a:ext cx="67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YEYU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ILEO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POR DIFUSION PAS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9"/>
          <p:cNvSpPr/>
          <p:nvPr/>
        </p:nvSpPr>
        <p:spPr>
          <a:xfrm>
            <a:off x="642960" y="5572080"/>
            <a:ext cx="5975280" cy="368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.Grasos de C.larga: Sistema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714240" y="3786120"/>
            <a:ext cx="5040360" cy="78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ICEL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: Monoglic., AG cad.larg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lesterol, Vit.liposolu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salud.discapnet.es/Castellano/Salud/Discapacidades/Condiciones%20Discapacitantes/Ostomizados/Documents/095d7944a73443ba92e8ff6e6e9036fbclipimage002.jpg"/>
          <p:cNvPicPr/>
          <p:nvPr/>
        </p:nvPicPr>
        <p:blipFill>
          <a:blip r:embed="rId1"/>
          <a:stretch/>
        </p:blipFill>
        <p:spPr>
          <a:xfrm>
            <a:off x="428760" y="500040"/>
            <a:ext cx="5072040" cy="5999040"/>
          </a:xfrm>
          <a:prstGeom prst="rect">
            <a:avLst/>
          </a:prstGeom>
          <a:ln w="0">
            <a:noFill/>
          </a:ln>
        </p:spPr>
      </p:pic>
      <p:sp>
        <p:nvSpPr>
          <p:cNvPr id="311" name="2 CuadroTexto"/>
          <p:cNvSpPr/>
          <p:nvPr/>
        </p:nvSpPr>
        <p:spPr>
          <a:xfrm>
            <a:off x="6485400" y="1785960"/>
            <a:ext cx="184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YE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ILE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3 Elipse"/>
          <p:cNvSpPr/>
          <p:nvPr/>
        </p:nvSpPr>
        <p:spPr>
          <a:xfrm>
            <a:off x="3929040" y="4857840"/>
            <a:ext cx="114300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4 Elipse"/>
          <p:cNvSpPr/>
          <p:nvPr/>
        </p:nvSpPr>
        <p:spPr>
          <a:xfrm>
            <a:off x="2071800" y="5572080"/>
            <a:ext cx="7142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315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316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321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322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Forma libre 27"/>
            <p:cNvSpPr/>
            <p:nvPr/>
          </p:nvSpPr>
          <p:spPr>
            <a:xfrm>
              <a:off x="5311800" y="5500800"/>
              <a:ext cx="42084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326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orma libre 33"/>
            <p:cNvSpPr/>
            <p:nvPr/>
          </p:nvSpPr>
          <p:spPr>
            <a:xfrm>
              <a:off x="5203800" y="1882800"/>
              <a:ext cx="42048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upo 39"/>
          <p:cNvGrpSpPr/>
          <p:nvPr/>
        </p:nvGrpSpPr>
        <p:grpSpPr>
          <a:xfrm>
            <a:off x="2411280" y="2567160"/>
            <a:ext cx="2951280" cy="862560"/>
            <a:chOff x="2411280" y="2567160"/>
            <a:chExt cx="2951280" cy="862560"/>
          </a:xfrm>
        </p:grpSpPr>
        <p:sp>
          <p:nvSpPr>
            <p:cNvPr id="332" name="Cuadro de texto 37"/>
            <p:cNvSpPr/>
            <p:nvPr/>
          </p:nvSpPr>
          <p:spPr>
            <a:xfrm>
              <a:off x="2411280" y="2567160"/>
              <a:ext cx="295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DHAP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Glicerol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Times New Roman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upo 64"/>
          <p:cNvGrpSpPr/>
          <p:nvPr/>
        </p:nvGrpSpPr>
        <p:grpSpPr>
          <a:xfrm>
            <a:off x="214200" y="4857840"/>
            <a:ext cx="8244000" cy="1653840"/>
            <a:chOff x="214200" y="4857840"/>
            <a:chExt cx="8244000" cy="1653840"/>
          </a:xfrm>
        </p:grpSpPr>
        <p:sp>
          <p:nvSpPr>
            <p:cNvPr id="336" name="Cuadro de texto 40"/>
            <p:cNvSpPr/>
            <p:nvPr/>
          </p:nvSpPr>
          <p:spPr>
            <a:xfrm>
              <a:off x="214200" y="485784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ínea 41"/>
            <p:cNvSpPr/>
            <p:nvPr/>
          </p:nvSpPr>
          <p:spPr>
            <a:xfrm flipH="1">
              <a:off x="1689120" y="514656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ínea 43"/>
            <p:cNvSpPr/>
            <p:nvPr/>
          </p:nvSpPr>
          <p:spPr>
            <a:xfrm>
              <a:off x="1149120" y="5360760"/>
              <a:ext cx="0" cy="72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Cuadro de texto 44"/>
            <p:cNvSpPr/>
            <p:nvPr/>
          </p:nvSpPr>
          <p:spPr>
            <a:xfrm>
              <a:off x="501480" y="614340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ínea 49"/>
          <p:cNvSpPr/>
          <p:nvPr/>
        </p:nvSpPr>
        <p:spPr>
          <a:xfrm>
            <a:off x="2857680" y="285768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34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348" name="Elipse 60"/>
              <p:cNvSpPr/>
              <p:nvPr/>
            </p:nvSpPr>
            <p:spPr>
              <a:xfrm>
                <a:off x="621504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cc"/>
                    </a:solidFill>
                    <a:latin typeface="Times New Roman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ES_tradnl" sz="2000" spc="-1" strike="noStrike">
                    <a:solidFill>
                      <a:srgbClr val="c00000"/>
                    </a:solidFill>
                    <a:latin typeface="Times New Roman"/>
                  </a:rPr>
                  <a:t>TG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ínea 50"/>
              <p:cNvSpPr/>
              <p:nvPr/>
            </p:nvSpPr>
            <p:spPr>
              <a:xfrm flipH="1">
                <a:off x="3352680" y="421956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1 CuadroTexto"/>
          <p:cNvSpPr/>
          <p:nvPr/>
        </p:nvSpPr>
        <p:spPr>
          <a:xfrm>
            <a:off x="5072040" y="5657760"/>
            <a:ext cx="407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K: tioquinasas o Acil CoA sintet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HAP: dihidroxiacetona-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G: ácido graso- MAG: mono-acilglucér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M: quilomicr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44 CuadroTexto"/>
          <p:cNvSpPr/>
          <p:nvPr/>
        </p:nvSpPr>
        <p:spPr>
          <a:xfrm>
            <a:off x="7286760" y="3571920"/>
            <a:ext cx="13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45"/>
          <p:cNvSpPr/>
          <p:nvPr/>
        </p:nvSpPr>
        <p:spPr>
          <a:xfrm rot="5400000">
            <a:off x="3329640" y="3771000"/>
            <a:ext cx="539640" cy="3603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6"/>
          <p:cNvGrpSpPr/>
          <p:nvPr/>
        </p:nvGrpSpPr>
        <p:grpSpPr>
          <a:xfrm>
            <a:off x="2843280" y="3357720"/>
            <a:ext cx="502920" cy="718920"/>
            <a:chOff x="2843280" y="3357720"/>
            <a:chExt cx="502920" cy="718920"/>
          </a:xfrm>
        </p:grpSpPr>
        <p:sp>
          <p:nvSpPr>
            <p:cNvPr id="359" name="Arc 47"/>
            <p:cNvSpPr/>
            <p:nvPr/>
          </p:nvSpPr>
          <p:spPr>
            <a:xfrm rot="17181600">
              <a:off x="2829600" y="3558240"/>
              <a:ext cx="536400" cy="360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ínea 49"/>
            <p:cNvSpPr/>
            <p:nvPr/>
          </p:nvSpPr>
          <p:spPr>
            <a:xfrm>
              <a:off x="2843280" y="335772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CuadroTexto"/>
          <p:cNvSpPr/>
          <p:nvPr/>
        </p:nvSpPr>
        <p:spPr>
          <a:xfrm>
            <a:off x="285840" y="1143000"/>
            <a:ext cx="8286840" cy="1679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Arial"/>
              </a:rPr>
              <a:t>LÍPIDOS</a:t>
            </a:r>
            <a:r>
              <a:rPr b="1" lang="es-AR" sz="20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Características comu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solubles en agu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forman estructuras poliméricas (como los polisacáridos polipépt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 CuadroTexto"/>
          <p:cNvSpPr/>
          <p:nvPr/>
        </p:nvSpPr>
        <p:spPr>
          <a:xfrm>
            <a:off x="357120" y="3000240"/>
            <a:ext cx="8286840" cy="2228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Arial"/>
              </a:rPr>
              <a:t>Comprenden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una amplia variedad de sustancia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riglicéridos (TG) o grasas neu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luc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lesterol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4 CuadroTexto"/>
          <p:cNvSpPr/>
          <p:nvPr/>
        </p:nvSpPr>
        <p:spPr>
          <a:xfrm>
            <a:off x="428760" y="5357880"/>
            <a:ext cx="8143920" cy="1313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Arial"/>
              </a:rPr>
              <a:t>Constit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ás del 10 % del peso corporal de un individuo adul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proximadamente el 40 % de las calorías de la alimentación di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se recomienda no más del 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METABOLISMO  LIP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109520" y="1571760"/>
            <a:ext cx="6313680" cy="4429080"/>
          </a:xfrm>
          <a:prstGeom prst="rect">
            <a:avLst/>
          </a:prstGeom>
          <a:ln w="0">
            <a:noFill/>
          </a:ln>
        </p:spPr>
      </p:pic>
      <p:sp>
        <p:nvSpPr>
          <p:cNvPr id="362" name="Rectángulo 4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71680" y="1285920"/>
            <a:ext cx="770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Rectángulo"/>
          <p:cNvSpPr/>
          <p:nvPr/>
        </p:nvSpPr>
        <p:spPr>
          <a:xfrm>
            <a:off x="257184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LOS 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Se pueden clasificar po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complejidad de sus moléculas</a:t>
            </a: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2357280" y="1073160"/>
            <a:ext cx="44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Ácidos grasos l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Tri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C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6 Rectángulo"/>
          <p:cNvSpPr/>
          <p:nvPr/>
        </p:nvSpPr>
        <p:spPr>
          <a:xfrm>
            <a:off x="2428920" y="285768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Fosfo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Glico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7 CuadroTexto"/>
          <p:cNvSpPr/>
          <p:nvPr/>
        </p:nvSpPr>
        <p:spPr>
          <a:xfrm>
            <a:off x="2509560" y="4786200"/>
            <a:ext cx="244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so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Terp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rostagland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Abrir llave"/>
          <p:cNvSpPr/>
          <p:nvPr/>
        </p:nvSpPr>
        <p:spPr>
          <a:xfrm>
            <a:off x="2286000" y="1214280"/>
            <a:ext cx="71280" cy="128592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1285920"/>
              <a:gd name="textAreaBottom" fmla="*/ 128412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"/>
                  <a:pt x="10800" y="100"/>
                </a:cubicBezTo>
                <a:lnTo>
                  <a:pt x="10800" y="10700"/>
                </a:lnTo>
                <a:cubicBezTo>
                  <a:pt x="10800" y="10750"/>
                  <a:pt x="5400" y="10800"/>
                  <a:pt x="0" y="10800"/>
                </a:cubicBezTo>
                <a:cubicBezTo>
                  <a:pt x="5400" y="10800"/>
                  <a:pt x="10800" y="10850"/>
                  <a:pt x="10800" y="10900"/>
                </a:cubicBezTo>
                <a:lnTo>
                  <a:pt x="10800" y="21500"/>
                </a:lnTo>
                <a:cubicBezTo>
                  <a:pt x="10800" y="215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9 Abrir llave"/>
          <p:cNvSpPr/>
          <p:nvPr/>
        </p:nvSpPr>
        <p:spPr>
          <a:xfrm>
            <a:off x="2295360" y="3000240"/>
            <a:ext cx="61920" cy="1428840"/>
          </a:xfrm>
          <a:custGeom>
            <a:avLst/>
            <a:gdLst>
              <a:gd name="textAreaLeft" fmla="*/ 39600 w 61920"/>
              <a:gd name="textAreaRight" fmla="*/ 62280 w 61920"/>
              <a:gd name="textAreaTop" fmla="*/ 1440 h 1428840"/>
              <a:gd name="textAreaBottom" fmla="*/ 142740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5400" y="10800"/>
                  <a:pt x="0" y="10800"/>
                </a:cubicBezTo>
                <a:cubicBezTo>
                  <a:pt x="54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0 Abrir llave"/>
          <p:cNvSpPr/>
          <p:nvPr/>
        </p:nvSpPr>
        <p:spPr>
          <a:xfrm>
            <a:off x="2357280" y="4714920"/>
            <a:ext cx="71640" cy="192888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1928880"/>
              <a:gd name="textAreaBottom" fmla="*/ 19270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"/>
                  <a:pt x="10800" y="67"/>
                </a:cubicBezTo>
                <a:lnTo>
                  <a:pt x="10800" y="10733"/>
                </a:lnTo>
                <a:cubicBezTo>
                  <a:pt x="10800" y="10767"/>
                  <a:pt x="5400" y="10800"/>
                  <a:pt x="0" y="10800"/>
                </a:cubicBezTo>
                <a:cubicBezTo>
                  <a:pt x="5400" y="10800"/>
                  <a:pt x="10800" y="10834"/>
                  <a:pt x="10800" y="10867"/>
                </a:cubicBezTo>
                <a:lnTo>
                  <a:pt x="10800" y="21533"/>
                </a:lnTo>
                <a:cubicBezTo>
                  <a:pt x="10800" y="215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1 Conector recto"/>
          <p:cNvSpPr/>
          <p:nvPr/>
        </p:nvSpPr>
        <p:spPr>
          <a:xfrm flipV="1">
            <a:off x="928080" y="1857240"/>
            <a:ext cx="1214280" cy="1500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2 Conector recto"/>
          <p:cNvSpPr/>
          <p:nvPr/>
        </p:nvSpPr>
        <p:spPr>
          <a:xfrm>
            <a:off x="1000080" y="3786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3 Conector recto"/>
          <p:cNvSpPr/>
          <p:nvPr/>
        </p:nvSpPr>
        <p:spPr>
          <a:xfrm>
            <a:off x="851760" y="3941640"/>
            <a:ext cx="129060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trigi+1"/>
          <p:cNvPicPr/>
          <p:nvPr/>
        </p:nvPicPr>
        <p:blipFill>
          <a:blip r:embed="rId1"/>
          <a:stretch/>
        </p:blipFill>
        <p:spPr>
          <a:xfrm>
            <a:off x="5948280" y="85716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857840" y="3286080"/>
            <a:ext cx="2820960" cy="1087560"/>
          </a:xfrm>
          <a:prstGeom prst="rect">
            <a:avLst/>
          </a:prstGeom>
          <a:ln w="0">
            <a:noFill/>
          </a:ln>
        </p:spPr>
      </p:pic>
      <p:sp>
        <p:nvSpPr>
          <p:cNvPr id="62" name="22 CuadroTexto"/>
          <p:cNvSpPr/>
          <p:nvPr/>
        </p:nvSpPr>
        <p:spPr>
          <a:xfrm>
            <a:off x="7434000" y="357192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sfoglicér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000840" y="4857840"/>
            <a:ext cx="2576520" cy="1638360"/>
          </a:xfrm>
          <a:prstGeom prst="rect">
            <a:avLst/>
          </a:prstGeom>
          <a:ln w="0">
            <a:noFill/>
          </a:ln>
        </p:spPr>
      </p:pic>
      <p:sp>
        <p:nvSpPr>
          <p:cNvPr id="64" name="24 CuadroTexto"/>
          <p:cNvSpPr/>
          <p:nvPr/>
        </p:nvSpPr>
        <p:spPr>
          <a:xfrm>
            <a:off x="6290640" y="514368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Rectángulo"/>
          <p:cNvSpPr/>
          <p:nvPr/>
        </p:nvSpPr>
        <p:spPr>
          <a:xfrm>
            <a:off x="1785960" y="7142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Constitutivos de órganos y tej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Manto térmi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en el tejido subcutáneo aísl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l cuerpo evitando la pérdida de ca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Estructura de las membranas celulares</a:t>
            </a:r>
            <a:r>
              <a:rPr b="1" lang="es-E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b4b0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Fosfolípidos y Coleste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Estructura de caracteres sexuales secund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CuadroTexto"/>
          <p:cNvSpPr/>
          <p:nvPr/>
        </p:nvSpPr>
        <p:spPr>
          <a:xfrm>
            <a:off x="2439000" y="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LOS 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Calibri"/>
              </a:rPr>
              <a:t>Se pueden clasificar por su función</a:t>
            </a:r>
            <a:r>
              <a:rPr b="0" lang="es-AR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Rectángulo"/>
          <p:cNvSpPr/>
          <p:nvPr/>
        </p:nvSpPr>
        <p:spPr>
          <a:xfrm>
            <a:off x="1714680" y="328608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Reserv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Calibri"/>
              </a:rPr>
              <a:t>Fuente o depósito de energí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Triglicé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7 Abrir llave"/>
          <p:cNvSpPr/>
          <p:nvPr/>
        </p:nvSpPr>
        <p:spPr>
          <a:xfrm>
            <a:off x="1643040" y="1000080"/>
            <a:ext cx="142920" cy="228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2286000"/>
              <a:gd name="textAreaBottom" fmla="*/ 22824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8 Abrir llave"/>
          <p:cNvSpPr/>
          <p:nvPr/>
        </p:nvSpPr>
        <p:spPr>
          <a:xfrm>
            <a:off x="1643040" y="3357720"/>
            <a:ext cx="142920" cy="8571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onector recto"/>
          <p:cNvSpPr/>
          <p:nvPr/>
        </p:nvSpPr>
        <p:spPr>
          <a:xfrm>
            <a:off x="785880" y="3857760"/>
            <a:ext cx="857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3 Conector recto"/>
          <p:cNvSpPr/>
          <p:nvPr/>
        </p:nvSpPr>
        <p:spPr>
          <a:xfrm flipV="1">
            <a:off x="714240" y="2071800"/>
            <a:ext cx="857520" cy="128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9 CuadroTexto"/>
          <p:cNvSpPr/>
          <p:nvPr/>
        </p:nvSpPr>
        <p:spPr>
          <a:xfrm>
            <a:off x="1737000" y="4286160"/>
            <a:ext cx="67384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Calibri"/>
              </a:rPr>
              <a:t>Actividad biológica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Reguladores Biológ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hormonas esteroide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Pigment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retinol, carot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Cofacto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vitamina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Detergente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ácidos bili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Mensajeros celula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eicosano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rivados de fosfatidil inosit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0 Abrir llave"/>
          <p:cNvSpPr/>
          <p:nvPr/>
        </p:nvSpPr>
        <p:spPr>
          <a:xfrm>
            <a:off x="1643040" y="4357800"/>
            <a:ext cx="142920" cy="228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2286000"/>
              <a:gd name="textAreaBottom" fmla="*/ 22824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1 Conector recto"/>
          <p:cNvSpPr/>
          <p:nvPr/>
        </p:nvSpPr>
        <p:spPr>
          <a:xfrm>
            <a:off x="642960" y="4081320"/>
            <a:ext cx="928800" cy="141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2 CuadroTexto"/>
          <p:cNvSpPr/>
          <p:nvPr/>
        </p:nvSpPr>
        <p:spPr>
          <a:xfrm>
            <a:off x="785880" y="571680"/>
            <a:ext cx="7572240" cy="5825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os lípidos presentes en l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encuentran generalmente en mayor concentració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Ace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Mant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Yema de hu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En general están present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triglicéridos (grasas neut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cidos grasos y sus deriv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taminas liposolubles (A, D, E,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as grasas producen por oxidación </a:t>
            </a: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9 Kcal/g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 doble de energía  respecto a los hidratos de carbo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o las proteínas (4 Kcal/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1104301-Fats-SPL"/>
          <p:cNvPicPr/>
          <p:nvPr/>
        </p:nvPicPr>
        <p:blipFill>
          <a:blip r:embed="rId1"/>
          <a:stretch/>
        </p:blipFill>
        <p:spPr>
          <a:xfrm>
            <a:off x="6072120" y="1714680"/>
            <a:ext cx="22399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Rectangle 5"/>
          <p:cNvGrpSpPr/>
          <p:nvPr/>
        </p:nvGrpSpPr>
        <p:grpSpPr>
          <a:xfrm>
            <a:off x="622440" y="115920"/>
            <a:ext cx="7888320" cy="1285920"/>
            <a:chOff x="622440" y="115920"/>
            <a:chExt cx="7888320" cy="1285920"/>
          </a:xfrm>
        </p:grpSpPr>
        <p:pic>
          <p:nvPicPr>
            <p:cNvPr id="80" name="Rectangle 5" descr=""/>
            <p:cNvPicPr/>
            <p:nvPr/>
          </p:nvPicPr>
          <p:blipFill>
            <a:blip r:embed="rId1"/>
            <a:stretch/>
          </p:blipFill>
          <p:spPr>
            <a:xfrm>
              <a:off x="622440" y="115920"/>
              <a:ext cx="78883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84360" y="1890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7030a0"/>
                  </a:solidFill>
                  <a:latin typeface="Calibri"/>
                </a:rPr>
                <a:t>COMPOSICION LIPÍDICA DE ALGUNOS COMPONENTES DE  DIET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MANTECA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Mirístico         2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almít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25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almitoleico   3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eár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14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le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45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inole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9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3809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CEITE DE O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almítico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11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eár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2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le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79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inole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7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716360" y="4508640"/>
            <a:ext cx="4103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lmít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ár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le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345675432"/>
          <p:cNvPicPr/>
          <p:nvPr/>
        </p:nvPicPr>
        <p:blipFill>
          <a:blip r:embed="rId2"/>
          <a:stretch/>
        </p:blipFill>
        <p:spPr>
          <a:xfrm>
            <a:off x="500040" y="2714760"/>
            <a:ext cx="3200400" cy="2022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arrita_aceite_oliva"/>
          <p:cNvPicPr/>
          <p:nvPr/>
        </p:nvPicPr>
        <p:blipFill>
          <a:blip r:embed="rId3"/>
          <a:stretch/>
        </p:blipFill>
        <p:spPr>
          <a:xfrm>
            <a:off x="6515280" y="1571760"/>
            <a:ext cx="2628720" cy="321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ANd9GcQ8Wu_IlxexrrMMmLpAlf9jNdr4PgQXkgOBcBAVvbN-eEt5BS6l4A"/>
          <p:cNvPicPr/>
          <p:nvPr/>
        </p:nvPicPr>
        <p:blipFill>
          <a:blip r:embed="rId4"/>
          <a:stretch/>
        </p:blipFill>
        <p:spPr>
          <a:xfrm>
            <a:off x="3929040" y="464328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42960" y="1893960"/>
          <a:ext cx="7858080" cy="3392280"/>
        </p:xfrm>
        <a:graphic>
          <a:graphicData uri="http://schemas.openxmlformats.org/drawingml/2006/table">
            <a:tbl>
              <a:tblPr/>
              <a:tblGrid>
                <a:gridCol w="2021040"/>
                <a:gridCol w="1944360"/>
                <a:gridCol w="1946520"/>
                <a:gridCol w="1946160"/>
              </a:tblGrid>
              <a:tr h="53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in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n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Giras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4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Maí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8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O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uacate (Palt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8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ca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14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ma de ace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89" name="4 CuadroTexto"/>
          <p:cNvGrpSpPr/>
          <p:nvPr/>
        </p:nvGrpSpPr>
        <p:grpSpPr>
          <a:xfrm>
            <a:off x="291960" y="103320"/>
            <a:ext cx="8759880" cy="768240"/>
            <a:chOff x="291960" y="103320"/>
            <a:chExt cx="8759880" cy="768240"/>
          </a:xfrm>
        </p:grpSpPr>
        <p:pic>
          <p:nvPicPr>
            <p:cNvPr id="90" name="4 CuadroTexto" descr=""/>
            <p:cNvPicPr/>
            <p:nvPr/>
          </p:nvPicPr>
          <p:blipFill>
            <a:blip r:embed="rId1"/>
            <a:stretch/>
          </p:blipFill>
          <p:spPr>
            <a:xfrm>
              <a:off x="291960" y="103320"/>
              <a:ext cx="87598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8760" y="21420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3200" spc="-1" strike="noStrike">
                  <a:solidFill>
                    <a:srgbClr val="c00000"/>
                  </a:solidFill>
                  <a:latin typeface="Calibri"/>
                </a:rPr>
                <a:t>Composición de ácidos grasos en distintos acei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8760" y="1773000"/>
            <a:ext cx="7812000" cy="39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3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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imer doble enlace se encuentra en el tercer carbono contando desde el extremo metílico (denominado ome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6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6):El primer doble enlace se encuentra en el sexto carbono contando desde el extremo metí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ACIDOS GRASOS ESENCIALES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no son sintetizados por el organismo</a:t>
            </a:r>
            <a:br>
              <a:rPr sz="2400"/>
            </a:b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- deben ser provistos con la di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00040" y="5643720"/>
            <a:ext cx="7715160" cy="78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LINOLEICO (18:2) ) (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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1% del valor calórico de la di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00040" y="2987640"/>
            <a:ext cx="4753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LINOLENICO (18:3) (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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000760" y="4714920"/>
            <a:ext cx="35528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ACIDOS GRASOS ESENCIALES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Ácidos grasos poliinsaturados</a:t>
            </a:r>
            <a:br>
              <a:rPr sz="2800"/>
            </a:b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Importancia en la di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Omega fatty acids ES"/>
          <p:cNvPicPr/>
          <p:nvPr/>
        </p:nvPicPr>
        <p:blipFill>
          <a:blip r:embed="rId1"/>
          <a:stretch/>
        </p:blipFill>
        <p:spPr>
          <a:xfrm>
            <a:off x="5715000" y="1571760"/>
            <a:ext cx="3429000" cy="4786200"/>
          </a:xfrm>
          <a:prstGeom prst="rect">
            <a:avLst/>
          </a:prstGeom>
          <a:ln w="0">
            <a:noFill/>
          </a:ln>
        </p:spPr>
      </p:pic>
      <p:sp>
        <p:nvSpPr>
          <p:cNvPr id="99" name="12 CuadroTexto"/>
          <p:cNvSpPr/>
          <p:nvPr/>
        </p:nvSpPr>
        <p:spPr>
          <a:xfrm>
            <a:off x="63720" y="1785960"/>
            <a:ext cx="5547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Dieta rica en AG poliinsaturados (</a:t>
            </a:r>
            <a:r>
              <a:rPr b="1" i="1" lang="es-ES_tradnl" sz="2000" spc="-1" strike="noStrike">
                <a:solidFill>
                  <a:srgbClr val="0000cc"/>
                </a:solidFill>
                <a:latin typeface="Comic Sans MS"/>
              </a:rPr>
              <a:t>cis</a:t>
            </a: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(1-2% del total de calorí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e46c0a"/>
                </a:solidFill>
                <a:latin typeface="Comic Sans MS"/>
              </a:rPr>
              <a:t>aceites vegetales y de semillas (colza, nu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e46c0a"/>
                </a:solidFill>
                <a:latin typeface="Comic Sans MS"/>
              </a:rPr>
              <a:t>pescado graso (salmón, caballa, arenqu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colesterol en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nivel de TG en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Factor preventivo de ateroscle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Protegen de enfermedad cor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presión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Efecto regulador del metabolism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Lipoproteínas del plas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(disminuyen la produ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y aumentan la degradación de las L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22:58:13Z</dcterms:created>
  <dc:creator>ali y facu</dc:creator>
  <dc:description/>
  <dc:language>en-US</dc:language>
  <cp:lastModifiedBy>ali y facu</cp:lastModifiedBy>
  <dcterms:modified xsi:type="dcterms:W3CDTF">2014-10-03T22:56:11Z</dcterms:modified>
  <cp:revision>208</cp:revision>
  <dc:subject/>
  <dc:title>Diapositiva 1</dc:title>
</cp:coreProperties>
</file>